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4D2-D312-4B81-BB78-DD1F6328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D5B-8FE7-4692-93B7-141A428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89CF29-675C-42FA-A5AD-57D8FA5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B1A53-AB83-4FFB-B8CB-5E3E12B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746D6-A926-4882-896F-90B25E27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2E714-C589-4E9C-86D0-459DE37C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70C6C-5B98-44BE-B051-51B07B4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B7833-8165-4503-BB9B-93E5587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F79F54-6127-406A-9972-4B460526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451AB-C270-4B71-AFA5-D95DE78B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44BFF1-1D03-4BCA-BA85-B6342DBE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57C65-04F0-4A23-9243-FEDA6D56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540-026B-4339-9C12-D913B8C3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3D3EE-8080-4ABD-A075-DD324FB5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1EC81-E500-4D5A-B48D-F6B7FC21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176CB-0718-4317-AC8A-2A9BF00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8DFA8-93DD-4F93-ABAF-E8162257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2EF17-27E0-4A33-A545-4A1A0815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79978-9A0C-4B37-A700-8AF63865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823CD-A8D5-47C2-9620-5FE0FB9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B4F9B-6742-4589-86CB-A3629D1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9A869-5E67-4EEC-AB64-71E1E664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3431F-9F67-4A1E-83CC-70DF3B2F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B22-6642-41B5-B4E1-4C65E4BA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1BEBE-E7E6-4844-ADDA-0C38B877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BF8C67-C9EF-4FE8-925B-0A9FD875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4720EB-A11B-4509-8122-5E55471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CB23BE-B746-4AC1-8735-15AB332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F8ECE1-C93B-40FE-91B5-20EEADF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8C39D-976B-4786-99DE-65A6289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A7C384-3A6A-4F52-AACC-1B6A336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EB3688-515F-4CE6-A91C-4A69B42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3017EA-F8F9-42AE-8D93-F94225F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9AE122-4F1F-44D4-B5D2-4335234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C18A-C192-42BA-A6C1-8F75DFBF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A83632-39B5-4E54-99F2-7C45F35F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4D5897-CDD4-4642-8907-52DF5286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82DD84-E405-4A08-9434-478F1513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F52DF-2F52-4F83-A12E-F1996D36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0F90D-4E79-4C09-8F03-0E43FF9B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979DF-4C72-49E4-8084-27D89760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1DFCD-6110-4823-AF8D-A9B0F76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66119-A88D-4E88-A04E-EB866BD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90B52-1EA6-44F3-9699-BF822EB4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4D47-F589-4A0F-90FD-4CBF5ED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58C5-00A7-4F83-B28C-88B9F73E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41534-31F0-4061-9DC5-405CF88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9AAB6-C15D-4C7C-9CB0-239C34FC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96429-582E-4080-ADA1-E4A61284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6DB7E-956E-49F1-8B28-4AB2F1BD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86B68-027C-4A14-8C95-08F009B7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280B-D208-49B5-87A8-B801DCAB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BC04-1207-4EDF-91FF-1F0C300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DB6-7897-447C-A75E-BB472125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6136-1446-4D8E-AA4F-A61AF53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114F-F822-4FE4-985C-388FD18B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6B4-2C21-40D6-8DF7-68C669F4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1172-563A-43DB-A02F-0899523C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5279-3306-4CD0-A587-352D410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A727-AE2C-42F6-8132-98BE84CE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FF42-C538-4F33-BA64-74279F56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123-9D8F-4CBB-A65E-0771CE5B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8147-A30C-4CEB-AF66-0B64AC90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CD15-FDD7-4665-9AAE-ADCFC953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7A56-C0B3-496E-999C-56F3A582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845B-2D91-48E9-B0E7-8C45F16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0E9F-941A-4384-A2DB-B90665C2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B22-0474-4C8F-869B-38CD099D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95C8-A0AC-4542-A2F6-0A4973C6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E715-6A30-4300-91BB-2C69759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CD91-DB8A-4428-85A6-2C37187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822B-7829-4872-B8A2-838E42B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4325-B13A-46F2-A4D7-016FF806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24A7-1DD2-4DCB-98A5-069061FE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BD2E-2511-4C7E-AB28-E69FF0F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B083-DE85-439C-80D1-AE04B684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0FF1-068D-4C43-83B4-E0346D4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5AC1-E153-4103-8CAC-E3B42574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3A1-632A-4E29-A444-2DD2DD4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CC65-7414-43D2-8A07-48969E0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627B4-607D-40BD-B606-BFE78534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9558-88BD-4321-9885-56656314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3F7D-3210-435A-BB2D-E05E7F1C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1BBC-E8B9-41E5-A74A-7FF7770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562F-E5E1-4A7D-9AA4-1E88F078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9F5E-1542-4A94-B262-6AAB6DD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931C-5380-45CE-827D-01824635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5FC8-D1C9-42C5-A844-F2AFC392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BBBDD-05BB-4996-A6A1-8F7DB888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9CA-8298-4C7D-9B2B-1FD61A9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25061-4643-49E0-BFE5-A72F2004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3A4C-4FAE-4A61-9A21-70706E03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86DF7-D067-44FE-8659-C813EDF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5664-B205-4613-A335-D1F751A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8681-CC34-4B00-956E-0823835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F224C-F477-4A39-B419-3E2FC605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48357-F4EC-4058-8EDA-9422DAA7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31CA-4953-4ACF-9CD6-EE3F801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7955-1FD8-498E-8F92-36AB000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A062-9905-4DAF-A39A-4A821CC9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F81-9EAF-4038-89D2-AD5407D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E1D2-BD4D-4B10-AE97-362409E3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4A5C5-9F84-45F4-8A20-C7E67B96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B761D-C037-450A-8B2D-6C182E0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C1BBD-F272-4617-9486-420A6CC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5DE7B-2863-445F-9142-A744302C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C5249-A0A6-4EDC-888B-CCCB9056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2C045-0FBF-4B5A-9BF9-BE6776CB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34998-065A-4CD5-96E8-C942A793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FD2B1-1763-487F-8000-6170331B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C2C5E-8011-4C55-90F3-9D79B2C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3B3-92AD-4A21-BB15-CA34C30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B5E28-EDE1-4BB7-95F2-2D42F539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9B40C-30EC-437A-AC23-C2DE732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AA59B-FD67-4EA0-8EDF-6A073ADD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CAA99-3DEE-47D5-866E-AAFD5E30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6C807-B0C8-4088-BD4F-9965B60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4BE5-BF36-4907-A91A-599CAF8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CE440-47FD-49BF-B910-DD663DBC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6796-D3FD-4E00-92BC-2E308348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973A8-FFE4-4E1F-A1FD-29DD3A1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053B8-9BDA-462D-B941-C117AFD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B09-2EFD-4D1C-9F05-58F86A66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BF3B-DA0B-4002-A1C8-C0D5B4E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51C1-535A-4DC2-823B-77C59B9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09CA-7B4B-45C8-BDD4-FF7ECD4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CEBA-40E1-43E4-B182-75118DD7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8C974-06DC-4733-B4BA-4CB11137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431A-DA4D-475F-96F4-CE3390EE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62962-02A2-400B-8BEA-8F51CC9C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00D5D-B66A-4372-82B4-2CD25CE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567C-A0EF-4133-B15F-D551B4C8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0585C-5A5B-474D-9180-3D4FC790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2D5-9A33-4804-9016-3EBA5836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E268-918F-4204-B0C6-C00A58E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5501-1E2A-43F9-B3DC-3AB79569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D3F8B-FB47-410E-991F-B0335D7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F648C-9E1D-4737-BABA-4AD3C17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AA7AF-9F5C-41A5-B2E8-753BD06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E8379-4393-4079-B205-62753FD1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48B99-26FA-41EC-B316-ED607CC0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48486D-D618-498E-B3B0-B1C89893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73C37-64D7-44E7-AE96-751FBC7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96055-EF29-4163-B908-1293D33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D30-F6EF-48CA-BA41-9B6CCF9DF59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9C17-853B-4011-980E-5FE2EE328F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139-AA72-4CC2-8741-29960344E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DD3C-CBA8-466D-AC02-C7BD18E6E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426C-0F53-45F7-818B-3195B262589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F9E-B1C2-42C6-BA14-AEB0164B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960D-C3BB-4807-B14C-283481ED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401-C9A4-4C1F-A17A-3BFFF9A5C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7A67-7F7C-403F-8119-97E332FB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95AB-BC6D-4930-9B79-6B7B2A3D57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85CE-BE13-42FB-850A-53C4094EAC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A64-101D-44ED-818D-2A5E3E92576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4920" y="1219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Mi vacacion e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Ponce, puerto rico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194520" y="490860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By:Tatiana Tinsley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552840" cy="25048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73852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 Hot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la mam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y llego a mi hotel. Esta en Ponce, Puerto Rico. Esta muy bonita y grande. Tiene una domintorio gr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os y abrazos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639040" cy="227196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810400" y="4629240"/>
            <a:ext cx="3333600" cy="22287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5146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980720" y="-15264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Querido Lau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y buen tiempo. La agua es muy bonita y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lient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y yo fui bucar . yo neccesto una toalla playera. Yo mire mucho pescados. No mire u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burón. Un fuerte abraz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" descr="snorkeling in puerto rico"/>
          <p:cNvPicPr/>
          <p:nvPr/>
        </p:nvPicPr>
        <p:blipFill>
          <a:blip r:embed="rId1"/>
          <a:stretch/>
        </p:blipFill>
        <p:spPr>
          <a:xfrm rot="850200">
            <a:off x="6934320" y="151920"/>
            <a:ext cx="2209680" cy="14781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Dive 1"/>
          <p:cNvPicPr/>
          <p:nvPr/>
        </p:nvPicPr>
        <p:blipFill>
          <a:blip r:embed="rId2"/>
          <a:stretch/>
        </p:blipFill>
        <p:spPr>
          <a:xfrm>
            <a:off x="152280" y="152280"/>
            <a:ext cx="1714680" cy="1162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snorkeling 1"/>
          <p:cNvPicPr/>
          <p:nvPr/>
        </p:nvPicPr>
        <p:blipFill>
          <a:blip r:embed="rId3"/>
          <a:stretch/>
        </p:blipFill>
        <p:spPr>
          <a:xfrm>
            <a:off x="7238880" y="53341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aqua adventure Puerto Rico"/>
          <p:cNvPicPr/>
          <p:nvPr/>
        </p:nvPicPr>
        <p:blipFill>
          <a:blip r:embed="rId4"/>
          <a:stretch/>
        </p:blipFill>
        <p:spPr>
          <a:xfrm rot="1098600">
            <a:off x="151920" y="5181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snorkeling in puerto rico"/>
          <p:cNvPicPr/>
          <p:nvPr/>
        </p:nvPicPr>
        <p:blipFill>
          <a:blip r:embed="rId5"/>
          <a:stretch/>
        </p:blipFill>
        <p:spPr>
          <a:xfrm>
            <a:off x="3962520" y="5181480"/>
            <a:ext cx="19238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495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rida mama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yer yo hable con un muchacho y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ás tarde nosotros fuimos la playa. Lo praticar el surf y yo nade. Entonces nosotros fuimos el esqui acuatico. Hoy nostoros fuimos tabla hawaiana y esquiar en el agua. Buen tiempo y el sol brilla . Yo necesto una el traje de bano y la toalla playe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ás tarde nosotros compramos ropa para la fiesta maña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esos y abraz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953160" cy="31622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2695680" cy="1695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1299600" y="4724280"/>
            <a:ext cx="13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erida mam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y buen tiempo. Yo relajé. Mire television mucho. Entonces, fui a la casa de mi amigo y nosotros nadamos en la piscina. Antes de nadar,  compramos y gastamos mucho dinero  Más tarde mi amigo y yo fuimos a la fiesta y nosotros bailamos mucho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Un fuerte abrazo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Ta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952800" cy="29433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 rot="1129200">
            <a:off x="5867280" y="26668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2514600" cy="2202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6305400" y="4729320"/>
            <a:ext cx="28386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352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Querido Laur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y fui la play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a ve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 Necesto una toalla de playa , grafas de sol, y crema protectora. Hace calor y hace sol. Mi amigo nadar y yo tomar el s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Cariñosos salud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rido Laur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oy llueve . Yo fui a jugar al tenis. En  la cancha de tenis cubierta. Necesito un raqueta, pelota y red. Yo jugué  singles.  Yo golpeé  el pelota. Yo gané. Más tarde jugué baloncesto con mi amigo Jaun.  Yo pasé el pelota a mi amigo y lo dribló y entonces lo marc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 fuerte abraz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 rot="1407600">
            <a:off x="5334120" y="609120"/>
            <a:ext cx="3371760" cy="2495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 rot="20614200">
            <a:off x="4038480" y="2819160"/>
            <a:ext cx="2981520" cy="23428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232416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Querido Laur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Hoy  preparé ir a mi casa. Que estaba bien aquí. El muchachos son bueno . Fuí a compras otra vez. Entonces yo fuí a mi sala a demas. Yo no fui visté un museo, quizás la próxima v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Adi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T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40:33Z</dcterms:created>
  <dc:creator>tinsleybusbytat</dc:creator>
  <dc:description/>
  <dc:language>en-US</dc:language>
  <cp:lastModifiedBy>tinsleybusbytat</cp:lastModifiedBy>
  <dcterms:modified xsi:type="dcterms:W3CDTF">2011-11-30T17:04:36Z</dcterms:modified>
  <cp:revision>12</cp:revision>
  <dc:subject/>
  <dc:title>Slide 1</dc:title>
</cp:coreProperties>
</file>